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EDF85-0497-472E-9FC9-253EB276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8C78E-807A-4E23-8501-217FA6EC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2C3AE-4250-4361-8BB1-71896B32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21E29-257F-4AD9-A25B-5DFCF0A1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70737-90FA-4731-AD40-2A54C8B1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8B39D-B867-47FB-9BF2-E742A1A4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A138B-C9C6-452F-9546-C63F8FD9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D8CD4-D27E-4DA8-801D-1CA5A6E6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4358D-60CD-4198-811D-470A625D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2AE96-EB2C-4C88-9098-062FC7D6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BB132-930F-4D1B-9A17-0470D516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77B77-BA3E-4168-A101-ACA13879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A36D6-8D1B-44FB-BEC4-7ECA336B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B9CB56-29AD-4B6C-8823-E392D1E8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72C4DD-A78E-4F6F-AD0F-CC1934ED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F55E4-37EA-438E-ABE5-0ABD9A8D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3C581-B213-4D5F-8A21-97FA1D9F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3ABC1-C462-4F2D-BC5E-EACA66D6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203C8-8E65-4489-9B21-E68654B7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00F7D-A56C-471C-9B68-B018B44E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BF229-9B19-4BBB-A386-F1FB385F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F6071-CC29-4474-9138-8C78F3D5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68E9A6-9955-42CD-8E42-E0D4EDE1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F49CB-6235-494B-9D8D-8164FB2F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7820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67280" y="6237360"/>
            <a:ext cx="489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仁爱  创值  共赢  和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22424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9280" y="15840"/>
            <a:ext cx="1128960" cy="1468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04B1-8FAB-4F5B-9EC9-EAEAB938E9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9CE8-DC3F-4D2A-BDF4-34004CCD71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规模化鸡场冬季环境控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743200" y="3962520"/>
            <a:ext cx="345600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13.5.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如何使用最小通风方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鸡的日龄和体重的变化设定风机的工作模式。一般是由一个时间继电器控制一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的风机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周期，以便保证良好的空气质量与舍内温度均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通常安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寸两种规格的风机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规格一般设计通风能力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方英尺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6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方米）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规格一般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方英尺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方米）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。因为动力因素、安装因素、使用年限因素等的影响，达不到设计能力标准或衰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怎样计算最小通风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一栋饲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日龄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克）的鸡舍为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所需最小通风量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立方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计算。需要的通风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5*0.0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立方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1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立方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定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一个循环：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通风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1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立方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6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立方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机运行时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需要通风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机每分钟排风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我们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英寸风机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6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立方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），那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立方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56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立方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6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秒。即设定应该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关。同样两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英寸风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立方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）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运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秒也能达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立方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的通风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59480" y="23040"/>
            <a:ext cx="31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同体重时肉鸡需要的最低通风量和最高通风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623960" y="298440"/>
          <a:ext cx="5897520" cy="6559560"/>
        </p:xfrm>
        <a:graphic>
          <a:graphicData uri="http://schemas.openxmlformats.org/drawingml/2006/table">
            <a:tbl>
              <a:tblPr/>
              <a:tblGrid>
                <a:gridCol w="868320"/>
                <a:gridCol w="914400"/>
                <a:gridCol w="914400"/>
                <a:gridCol w="1028880"/>
                <a:gridCol w="1022400"/>
                <a:gridCol w="1149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体重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斤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最低通风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立方米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时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最低通风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立方米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时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体重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斤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最低通风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立方米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时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最高通风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立方米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时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6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6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4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8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7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5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8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2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6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0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4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9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8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7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2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5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2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9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7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3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7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7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1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dd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6d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6d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6d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6d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6d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6dd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何使用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钟通风循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一定的负压下，风机的通风量是一定的，循环周期的设定不同，鸡舍内的气体交换和温度变化也将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一个循环周期过长，气体交换充分，但舍内温度波动会比较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循环周期太短，温度波动虽然变小，但在一个周期中舍内空气交换不充分，舍内空气质量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过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循环周期进行对比，综合温度的稳定性和舍内气体交换情况两方面评定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的循环周期，能保证更好的空气质量及温度的均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循环周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机定时循环周期不超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。周期越短，温度波动范围越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56386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219320" y="2819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未知"/>
          <p:cNvSpPr/>
          <p:nvPr/>
        </p:nvSpPr>
        <p:spPr>
          <a:xfrm>
            <a:off x="1219320" y="3886200"/>
            <a:ext cx="5873760" cy="1214280"/>
          </a:xfrm>
          <a:custGeom>
            <a:avLst/>
            <a:gdLst/>
            <a:ahLst/>
            <a:rect l="l" t="t" r="r" b="b"/>
            <a:pathLst>
              <a:path w="3700" h="765">
                <a:moveTo>
                  <a:pt x="0" y="4"/>
                </a:moveTo>
                <a:lnTo>
                  <a:pt x="697" y="765"/>
                </a:lnTo>
                <a:lnTo>
                  <a:pt x="1421" y="0"/>
                </a:lnTo>
                <a:lnTo>
                  <a:pt x="2227" y="765"/>
                </a:lnTo>
                <a:lnTo>
                  <a:pt x="3042" y="8"/>
                </a:lnTo>
                <a:lnTo>
                  <a:pt x="3700" y="749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6324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3886200"/>
            <a:ext cx="6324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未知"/>
          <p:cNvSpPr/>
          <p:nvPr/>
        </p:nvSpPr>
        <p:spPr>
          <a:xfrm>
            <a:off x="1241280" y="4179960"/>
            <a:ext cx="5956560" cy="627120"/>
          </a:xfrm>
          <a:custGeom>
            <a:avLst/>
            <a:gdLst/>
            <a:ahLst/>
            <a:rect l="l" t="t" r="r" b="b"/>
            <a:pathLst>
              <a:path w="3752" h="395">
                <a:moveTo>
                  <a:pt x="0" y="17"/>
                </a:moveTo>
                <a:lnTo>
                  <a:pt x="271" y="395"/>
                </a:lnTo>
                <a:lnTo>
                  <a:pt x="691" y="8"/>
                </a:lnTo>
                <a:lnTo>
                  <a:pt x="1061" y="387"/>
                </a:lnTo>
                <a:lnTo>
                  <a:pt x="1415" y="0"/>
                </a:lnTo>
                <a:lnTo>
                  <a:pt x="1818" y="387"/>
                </a:lnTo>
                <a:lnTo>
                  <a:pt x="2205" y="0"/>
                </a:lnTo>
                <a:lnTo>
                  <a:pt x="2658" y="387"/>
                </a:lnTo>
                <a:lnTo>
                  <a:pt x="3036" y="8"/>
                </a:lnTo>
                <a:lnTo>
                  <a:pt x="3382" y="387"/>
                </a:lnTo>
                <a:lnTo>
                  <a:pt x="3752" y="8"/>
                </a:lnTo>
                <a:lnTo>
                  <a:pt x="3744" y="0"/>
                </a:lnTo>
                <a:lnTo>
                  <a:pt x="3744" y="8"/>
                </a:lnTo>
                <a:lnTo>
                  <a:pt x="3744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44956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4800600"/>
            <a:ext cx="6400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未知"/>
          <p:cNvSpPr/>
          <p:nvPr/>
        </p:nvSpPr>
        <p:spPr>
          <a:xfrm>
            <a:off x="1219320" y="4191120"/>
            <a:ext cx="6481800" cy="1440"/>
          </a:xfrm>
          <a:custGeom>
            <a:avLst/>
            <a:gdLst/>
            <a:ahLst/>
            <a:rect l="l" t="t" r="r" b="b"/>
            <a:pathLst>
              <a:path w="4083" h="1">
                <a:moveTo>
                  <a:pt x="0" y="0"/>
                </a:moveTo>
                <a:lnTo>
                  <a:pt x="4083" y="0"/>
                </a:lnTo>
              </a:path>
            </a:pathLst>
          </a:custGeom>
          <a:noFill/>
          <a:ln w="936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06360" y="3505320"/>
            <a:ext cx="6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分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14000" y="4495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5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分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69160" y="56530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排风时间  分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7680" y="2979000"/>
            <a:ext cx="454680" cy="12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舍温   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不可忽视的问题：风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最小通风模式时，舍外冷风从侧墙进风口进入应有足够的风速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3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秒），才能“喷射”空气进到鸡舍中间天花板附近，以达到混合室内的空气的目的。避免冷空气直接吹在鸡身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6483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3124080"/>
            <a:ext cx="0" cy="28195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09480" y="3352680"/>
            <a:ext cx="7620120" cy="2590920"/>
            <a:chOff x="609480" y="3352680"/>
            <a:chExt cx="7620120" cy="2590920"/>
          </a:xfrm>
        </p:grpSpPr>
        <p:sp>
          <p:nvSpPr>
            <p:cNvPr id="172" name=""/>
            <p:cNvSpPr/>
            <p:nvPr/>
          </p:nvSpPr>
          <p:spPr>
            <a:xfrm flipH="1">
              <a:off x="838080" y="3352680"/>
              <a:ext cx="35812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360" y="3352680"/>
              <a:ext cx="358164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90360" y="5105160"/>
              <a:ext cx="7632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72400" y="4724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480" y="59436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360" y="42670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72400" y="43434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990360" y="44953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43800" y="457200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838080" y="4336920"/>
              <a:ext cx="544680" cy="895320"/>
            </a:xfrm>
            <a:custGeom>
              <a:avLst/>
              <a:gdLst/>
              <a:ahLst/>
              <a:rect l="l" t="t" r="r" b="b"/>
              <a:pathLst>
                <a:path w="343" h="564">
                  <a:moveTo>
                    <a:pt x="0" y="156"/>
                  </a:moveTo>
                  <a:cubicBezTo>
                    <a:pt x="47" y="141"/>
                    <a:pt x="233" y="0"/>
                    <a:pt x="288" y="68"/>
                  </a:cubicBezTo>
                  <a:cubicBezTo>
                    <a:pt x="343" y="136"/>
                    <a:pt x="320" y="461"/>
                    <a:pt x="328" y="564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7086600" y="4190760"/>
              <a:ext cx="884160" cy="1117800"/>
            </a:xfrm>
            <a:custGeom>
              <a:avLst/>
              <a:gdLst/>
              <a:ahLst/>
              <a:rect l="l" t="t" r="r" b="b"/>
              <a:pathLst>
                <a:path w="557" h="704">
                  <a:moveTo>
                    <a:pt x="557" y="384"/>
                  </a:moveTo>
                  <a:lnTo>
                    <a:pt x="85" y="0"/>
                  </a:lnTo>
                  <a:cubicBezTo>
                    <a:pt x="0" y="53"/>
                    <a:pt x="53" y="557"/>
                    <a:pt x="45" y="704"/>
                  </a:cubicBezTo>
                </a:path>
              </a:pathLst>
            </a:custGeom>
            <a:noFill/>
            <a:ln w="57240">
              <a:solidFill>
                <a:srgbClr val="000066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736560" y="3733560"/>
              <a:ext cx="3681360" cy="1295640"/>
            </a:xfrm>
            <a:custGeom>
              <a:avLst/>
              <a:gdLst/>
              <a:ahLst/>
              <a:rect l="l" t="t" r="r" b="b"/>
              <a:pathLst>
                <a:path w="2319" h="816">
                  <a:moveTo>
                    <a:pt x="0" y="520"/>
                  </a:moveTo>
                  <a:lnTo>
                    <a:pt x="1976" y="0"/>
                  </a:lnTo>
                  <a:cubicBezTo>
                    <a:pt x="2319" y="9"/>
                    <a:pt x="2063" y="440"/>
                    <a:pt x="2056" y="576"/>
                  </a:cubicBezTo>
                  <a:lnTo>
                    <a:pt x="1936" y="816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066680" y="5257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风速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5105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合适风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5334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风速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不可忽视的问题：风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风口的风要满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-3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流速，就必须达到负压表显示舍内负压回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-1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风冷效应，因此需注意舍内的风速，以鸡背处风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-0.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秒为好，不宜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秒。因此鸡舍密闭性要好，以免局部出现低温、贼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886200" cy="2414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7339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风速测定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6248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开启多少进风口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风风速要满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-3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舍内保持负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-1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柱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风机（每台排风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方米）的运行需要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方英尺（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方米）的进风口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商品小窗的尺寸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。冬季因为需要保持进风口的打开角度向上，所以有效面积为风口面积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-3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-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厘米）。那么需要开启的进风口应为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8/(0.52*0.27*30%)=6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冬季一般情况下启动两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英寸排风扇已能满足通风的需要，所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风门可以满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风机达到风速的通风需要。如果随着日龄增加需要加大通风，可以把风口角度加大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-50%,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但是必须要达到负压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需要警惕的几个环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冬季通风必须满足最小通风量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风不是光开风机，必须开小窗（进风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窗不是随意开，尽量均匀一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大小的调整是在风机运行时进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调整的依据：风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3.5m/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或者负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-10m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测量鸡背处风速，不超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3m/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如有超过应检查、调整、采取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进风口风机百叶易挂霜、结冰，及时清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适用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群规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上密闭鸡舍，同时具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动饮水、自动喂料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负压或正压通风系统（纵向、横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足够的进风口且均匀分布（角度可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供暖设施并自控温度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帘降温系统（冬季很少使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方（寒冷干燥）地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二、温度与湿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冬季舍内温度要保持适宜、稳定很困难，这与通风换气是很大的矛盾。解决的原则：外界温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时，以通风为优先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下时，以保温为优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通风量低于最小通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仍不足以维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标准温度值的时候，说明供暖设备该更换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一个相对密闭的空间里，表显温度的值受湿度影响，呈负相关。温度相同而湿度不同，鸡的体感温度与表显温度并不符合。所以在表显温度适宜，但仍有扎堆畏寒、鸡爪冰凉的情况出现时，一定与湿度过低或贼风侵袭有关。夏季高湿也会出现反之的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静态空气条件下不同相对湿度和体重时的推荐温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(℃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380880"/>
          <a:ext cx="8229600" cy="5614920"/>
        </p:xfrm>
        <a:graphic>
          <a:graphicData uri="http://schemas.openxmlformats.org/drawingml/2006/table">
            <a:tbl>
              <a:tblPr/>
              <a:tblGrid>
                <a:gridCol w="1177920"/>
                <a:gridCol w="1171440"/>
                <a:gridCol w="1177920"/>
                <a:gridCol w="1175040"/>
                <a:gridCol w="1177920"/>
                <a:gridCol w="1171440"/>
                <a:gridCol w="1177920"/>
              </a:tblGrid>
              <a:tr h="774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Wt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楷体_GB2312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3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3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楷体_GB2312"/>
                        </a:rPr>
                        <a:t>2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3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3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3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楷体_GB2312"/>
                        </a:rPr>
                        <a:t>2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3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3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楷体_GB2312"/>
                        </a:rPr>
                        <a:t>2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9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楷体_GB2312"/>
                        </a:rPr>
                        <a:t>2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4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楷体_GB2312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0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楷体_GB2312"/>
                        </a:rPr>
                        <a:t>2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6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楷体_GB2312"/>
                        </a:rPr>
                        <a:t>1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3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楷体_GB2312"/>
                        </a:rPr>
                        <a:t>1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40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楷体_GB2312"/>
                        </a:rPr>
                        <a:t>1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舍内温差的处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方供暖方式多为煤炉、一端供热，势必造成鸡舍两端的温度差异，最多可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采取横向通风方式难以消除差异，通风量小的时候，由于开启的风机少，还会加大差异。办法：尽量开启远端侧墙风机，减少远端小窗开启尺度，加大近端开启尺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纵向通风好于横向：关闭远端小窗，自中间部位开始向近端开窗并逐步加大尺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湿度的维持与添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适宜的湿度可以加速温度传递，有助于温度均匀，还有利于降低风尘、湿润喉管，减轻呼吸道疾病。但湿度过高也会引发有害气体增加和霉菌发生，从而威胁呼吸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冬季舍内湿度一般偏低，极端湿度有时会低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左右。我认为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不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以后不低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很可以了。达到这个目标也还是需要加湿，而且需要经常添加，因为通风使水分不停地流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通风不断地带走水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8381880" cy="38098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80880" y="1371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冷空气吸收热量的同时体积膨胀，容纳更多的水分。排出的混合废气中带走鸡舍的湿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加湿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育雏区外地面洒水。缺点是：人为因素多，湿度忽高忽低不稳定；外围垫料易潮湿发霉；扩栏后无法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风炉加湿：加水喷嘴安装在送风电机和热风炉加热管道之间，使水变为蒸汽后混合于热风中，送入鸡舍。缺点是：汽化效果受炉温影响，水量不容宜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喷雾加湿。用热水通过喷雾撒入鸡舍，雾滴越细越好，这种办法可以结合带鸡消毒进行，但容易引起温度降低。需要事先升高温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而且不能一次加多量水，分次少量添加，以免引起大幅降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夏季通风降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870360" cy="40384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900000" y="5013360"/>
            <a:ext cx="5029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8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Times New Roman"/>
              </a:rPr>
              <a:t>Thank you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77676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几对主要矛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外界低温干燥的环境与舍内温暖湿润的要求矛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季节性流行病的压力与生物安全要求矛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供暖（保温）的难度与舍内足量新鲜空气（通风）的要求矛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大了的应激因素与下降了的鸡体抵抗力的矛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压下种鸡场鸡苗抗体与我们免疫的矛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三、老生常谈生物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物安全包括消毒、免疫、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S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内容。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S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偏重于环境卫生与现场管理，不算是难点。免疫下一节会谈到，我们这里主要谈论消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消毒是切断传播途径的主要手段，也是我们唯一容易做、会做、也能做到的事情。可实践中往往忽略了最该做、最易做的这件事情，把眼睛盯在易感动物的投药治疗上面。结果没顾好“此”又失去了“彼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消毒易、会、能，却也存有很多误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养殖场使用药物消毒的误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消毒前不做机械性清除的误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消毒药物作用的发挥，必须使药物接触到病原微生物，但被消毒的现场会存在大量的有机物，如粪便、饲料残渣、畜禽分泌物、体表脱落物，以及鼠粪、污水或其它污物，这些有机物中藏匿有大量病原微生物。同时，消毒药物与有机物，尤其是与蛋白质有不同程度的亲和力，可结合成为不溶性的化合物，并阻碍消毒药物作用的发挥。再者，消毒药被大量的有机物所消耗，严重降低了对病原微生物的作用浓度，所以说，彻底的机械清除是有效消毒的前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消毒前不做机械性清除的误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机械清除前应先将可拆卸的用具如食槽水槽、笼具、网等拆下，运至舍外清扫、浸泡、冲洗、刷刮，并反复消毒。舍内在拆除用具设备之后，从屋顶、墙壁、门窗，直至地面和粪池、水沟等按顺序认真打扫清除，然后用高压水冲洗直至完全干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在打扫清除之前，须先用消毒药物喷雾和喷洒，以免病原微生物四处飞扬和顺水流排出，扩散至相邻的畜禽舍及环境中，造成扩散污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对消毒程序和全进全出认识的误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消毒应按一定程序进行，不可杂乱无章随心所欲。舍内从上到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屋顶、墙壁、门窗至地面，下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喷洒大量消毒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搬出和拆卸用具和设备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上到下清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除粪尿等污物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压水充分冲洗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干燥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上到下并在空中用消毒药液喷雾，雾粒应细，部分雾粒可悬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左右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干燥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换另一种类型消毒药物喷雾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干燥。必要时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石灰乳涂墙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已消毒好的设备及用具搬进舍内安装调试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密闭门窗后用甲醛熏蒸，必要时三天后再用等量氨水喷雾一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封闭空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—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，才可认为消毒程序完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对消毒程序和全进全出认识的误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的对全进全出的要求不甚了解，往往在清舍消毒时，将出栏时剩余的数只生长落后或有病无法转出的鸡留在舍内或场内，有的甚至还在单独饲养。可以认为，在场内舍内存留一 只鸡，都不能视为做到了全进全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使用石灰消毒的误区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出窑的生石灰是氧化钙，加入一倍量的水，即生成疏松的熟石灰，也即氢氧化钙，只有这种离解出的氢氧根离子具有杀菌作用。有的场在入场或鸡舍入口处，堆放厚厚的干石灰，让鞋踏而过，这起不到消毒作用。也有的用放置时间过久的熟石灰做消毒用，但它已吸收了二氧化碳生成了碳酸钙，完全丧失了杀菌消毒作用。有的将石灰直接洒在场区或舍内，致使石灰粉尘大量飞扬，必定会吸入呼吸道内，引起咳嗽、打喷嚏、甩鼻、呼噜等一系列症状，人为的造成了一次呼吸道炎症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使用石灰消毒最好的方法是加水配制成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%——20%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的石灰乳，用于涂刷畜舍墙壁或泼洒场地，称为“涂白覆盖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既可消毒灭菌，又有覆盖污斑、涂白美观的作用。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饮水消毒的误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饮水消毒实际是对饮用水的消毒，鸡喝的是经过消毒的水，而不是喝的消毒药水。如果任意加大水中消毒药物的浓度或长期饮用，除可引起急性中毒外，还可杀死或抑制肠道内的正常菌群，对鸡的健康造成危害。所以饮水消毒应该是预防性的，而不是治疗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临床上常见的饮水消毒剂多为氯制剂、季胺盐类和碘制剂，中毒原因往往是浓度过高或使用时间过长。中毒后多见胃肠道炎症并积有粘液、腹泻，以及不同程度的死亡。还有的按某些资料，给雏鸡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锰酸钾饮水，结果造成口腔及上消化道粘膜被腐蚀，往往造成雏鸡较多的死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使用甲醛消毒的误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甲醛对绝大多数病原微生物包括芽孢和真菌等，都有较强的杀灭作用。但它有穿透力差、作用缓慢的缺点，而且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低温下存放的甲醛溶液，可生成絮状的三聚甲醛，致使杀菌力下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甲醛溶液消毒的作用受温度和湿度的影响很大，温度越高消毒效果越好。温度每升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消毒力可提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—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。在温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环境下，几乎没有消毒作用，所以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应保持在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0℃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以上使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还要注意，所说的温度是指被消毒物品表面的温度，而不是空气的温度，也不是在使用甲醛时短时内的温度。在用甲醛熏蒸消毒时，还应使环境相对湿度达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%—9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消毒作用才得以发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带鸡喷雾消毒的误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带鸡消毒的作用不仅限于体表，还包括整个空间和环境，因许多病原微生物是通过空气传播的，所以将带鸡消毒视为全方位消毒可能更为全面。带鸡消毒喷出雾粒直径大小应控制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—1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微米，雾粒过大则在空中下降速度太快，起不到消毒空气的作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雾粒过细则易被鸡吸入肺泡，引起肺水肿、呼吸困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做喷雾消毒的药物应选杀菌谱广、刺激性小的药物。药物的浓度必须按照使用说明，不可任意加大或降低。喷雾药物用量可按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空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—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毫升计算。因每进行喷雾一次，可降低舍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℃—4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所以在冬季应灵活调节药液浓度或用量。带鸡消毒根据情况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—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一次以至每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—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次。最好使用高压雾线，喷出的雾粒大小及流量可通过压力进行调节，用一般手动喷雾器不易达到此种要求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选用消毒药的误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消毒药有时要调换不同类型的药物，有的认为是避免病原微生物产生抗药性，实际病原微生物对消毒药是不会产生抗药性的。调换消毒药要根据消毒对象、目的、疫病种类以及使用方法而决定，不能随心所欲任意调换，既要考虑对病原微生物的杀灭作用，又要考虑对人畜无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一、通风换气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着育种、饲料营养、养殖条件等方面的逐年改善和进步，肉鸡的日增重越来越快，达到一定体重的周期越来越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慧最好批次指标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体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0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60g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00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2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2k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料肉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6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成活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7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上（最差：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此快速增重，鸡还正常、健康么？有一点是肯定的：心肺发育滞后、功能受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申：供给充沛的新鲜空气（氧气），尤其是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，就成为首要的福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甲醛、二醛、氢氧化钠、过氧乙酸等消毒作用都较强，对病毒．细菌、芽孢、真菌等都有较好的杀灭作用，但它们的副作用也较大，对有些消毒方式不适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带鸡消毒。而季胺盐类、氯制剂等相对副作用较小，但对芽孢、真菌等杀灭作用较差。季胺盐类消毒剂对法氏囊病毒及呼肠孤病毒等灭活作用则较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弥补各消毒药的某些缺点，增强消毒力，已研制了许多复合制剂，如复合碘制剂、复合季胺盐类、复合酚制剂、复合醛制剂等可供选用。但是有些药应严格按要求配制后使用，如过氧乙酸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液混合后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内效力不会降低，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消毒力已下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，并逐渐完全失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盲目消毒的误区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消毒应分为定期消毒和临时消毒，定期消毒是针对当地常发生的疫病种类、畜禽种类、不同季节等综合因素进行分析安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药物种类、使用浓度、消毒方法次数，以及消毒药物的轮换等。这种消毒是预防性的，但它至关重要，要制定周密的计划，不可随心所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受到某种疫病威胁或已发生疫情时，要根据情况制定临时消毒计划，除考虑选用针对性的消毒药物、消毒方法之外，还必须全面彻底的进行全方位大扫除、大消毒，并应反复进行数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进入生产区的人员、车辆、物料必须严格按程序进行消毒，不论是行政领导、技术人员或饲养工人，都应接一个标准执行。许多养殖场对外来人员要求严，对本场人员松的“外紧内松”“偷工减料”现象常有发生，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经任何消毒从饲料间、粪场等通道进入生产区的，基本都是本场人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场地消毒使用消毒液的量一般为每平方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0m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车辆入场必须用消毒液彻底冲洗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包括驾驶室），驾驶员不准下车。实际上多数养殖场的环境和车辆消毒流于形式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四、应激因素与免疫反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激反应（正确地讲是一种生理应激）是机体对热、冷、疾病、捕捉、不良通风、营养不良、霉菌等应激原和许多其它外部刺激的非特异性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类反应一般有三个阶段：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第一阶段是警觉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在此阶段鸡识别应激原，让鸡开始迅速应答或抵抗。这阶段肾上腺髓质释放大量激素，使机体迅速动员其营养储藏。警觉反应不能持续很长时间，然后机体进入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二阶段，即抵抗阶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此阶段是由肾上腺皮质分泌的激素介导的，动员不太容易获得的机体储备来调节。抵抗阶段的重要性是它能持续直至身体适应、消除应激原，或直至机体消耗光其营养储备而进入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第三阶段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衰竭阶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在此阶段，鸡将最终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应激的机理与后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多数情况下，鸡只日常遭遇的应激原是温和的，鸡群能适应它而不引起显著的经济损失。但一些应激原非常强烈，以至于鸡的所有努力也仅仅能够存活下来，消耗了许多不同组织的储备，导致了生长缓慢和免疫功能的抑制，以及许多其它后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强烈应激原的应答，肾上腺皮质酮将会引导机体储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蛋白质、碳水化合物、脂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生长和免疫功能，转向抵抗应激原这一更为迫切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应激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大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1447920"/>
            <a:ext cx="0" cy="684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129528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295280"/>
            <a:ext cx="152640" cy="99072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33920" y="2743200"/>
            <a:ext cx="0" cy="6094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7760" y="28184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肾上腺皮质激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08400" y="3432600"/>
            <a:ext cx="942840" cy="398880"/>
          </a:xfrm>
          <a:prstGeom prst="rect">
            <a:avLst/>
          </a:prstGeom>
          <a:noFill/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皮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3886200"/>
            <a:ext cx="0" cy="6094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396144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皮质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666880" y="4572000"/>
            <a:ext cx="19814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77160" y="434232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非必需”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1040" y="434232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“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必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”的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77280" y="4803840"/>
            <a:ext cx="1278000" cy="459720"/>
          </a:xfrm>
          <a:prstGeom prst="rect">
            <a:avLst/>
          </a:prstGeom>
          <a:noFill/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营养和储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876920"/>
            <a:ext cx="1752480" cy="59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散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呼吸频率增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心率增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50292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5029200"/>
            <a:ext cx="75960" cy="838080"/>
          </a:xfrm>
          <a:custGeom>
            <a:avLst/>
            <a:gdLst>
              <a:gd name="textAreaLeft" fmla="*/ 0 w 75960"/>
              <a:gd name="textAreaRight" fmla="*/ 2736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4724280"/>
            <a:ext cx="13716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免疫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繁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50292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5029200"/>
            <a:ext cx="152640" cy="838080"/>
          </a:xfrm>
          <a:custGeom>
            <a:avLst/>
            <a:gdLst>
              <a:gd name="textAreaLeft" fmla="*/ 0 w 152640"/>
              <a:gd name="textAreaRight" fmla="*/ 5508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华文新魏"/>
              </a:rPr>
              <a:t>发生应激反应如热应激时机体变化示意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35480" y="966960"/>
            <a:ext cx="637920" cy="398880"/>
          </a:xfrm>
          <a:prstGeom prst="rect">
            <a:avLst/>
          </a:prstGeom>
          <a:noFill/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丘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1160" y="15764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肾上腺皮质激素释放激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16400" y="2259000"/>
            <a:ext cx="637920" cy="398880"/>
          </a:xfrm>
          <a:prstGeom prst="rect">
            <a:avLst/>
          </a:prstGeom>
          <a:noFill/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垂 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应激对于免疫的抑制作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激反应降低了机体储备，影响了鸡的生长、生产和免疫功能，使鸡对疾病更易感。现已证明，肾上腺皮质酮对免疫功能有相对直接的影响。在对病毒的正常免疫应答过程中，被称作淋巴细胞的白细胞互相作用，建立免疫应答。已知应激反应会降低淋巴细胞的数量，引起对病毒病易感性的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就说明了为什么免疫过程中，强烈应激原的出现常常导致不能达到最佳的免疫效果。流行于养鸡业的病毒病即使采用最好的免疫程序，也能迅速扩散并且突破机体防御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应激原对于免疫的抑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19320" y="2209680"/>
            <a:ext cx="0" cy="31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未知"/>
          <p:cNvSpPr/>
          <p:nvPr/>
        </p:nvSpPr>
        <p:spPr>
          <a:xfrm>
            <a:off x="1371600" y="3962520"/>
            <a:ext cx="6400800" cy="1155600"/>
          </a:xfrm>
          <a:custGeom>
            <a:avLst/>
            <a:gdLst/>
            <a:ahLst/>
            <a:rect l="l" t="t" r="r" b="b"/>
            <a:pathLst>
              <a:path w="5220" h="806">
                <a:moveTo>
                  <a:pt x="0" y="806"/>
                </a:moveTo>
                <a:cubicBezTo>
                  <a:pt x="165" y="637"/>
                  <a:pt x="330" y="468"/>
                  <a:pt x="540" y="338"/>
                </a:cubicBezTo>
                <a:cubicBezTo>
                  <a:pt x="750" y="208"/>
                  <a:pt x="930" y="52"/>
                  <a:pt x="1260" y="26"/>
                </a:cubicBezTo>
                <a:cubicBezTo>
                  <a:pt x="1590" y="0"/>
                  <a:pt x="2010" y="78"/>
                  <a:pt x="2520" y="182"/>
                </a:cubicBezTo>
                <a:cubicBezTo>
                  <a:pt x="3030" y="286"/>
                  <a:pt x="3870" y="546"/>
                  <a:pt x="4320" y="650"/>
                </a:cubicBezTo>
                <a:cubicBezTo>
                  <a:pt x="4770" y="754"/>
                  <a:pt x="5070" y="780"/>
                  <a:pt x="5220" y="806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未知"/>
          <p:cNvSpPr/>
          <p:nvPr/>
        </p:nvSpPr>
        <p:spPr>
          <a:xfrm>
            <a:off x="1295280" y="2819520"/>
            <a:ext cx="6553440" cy="2119320"/>
          </a:xfrm>
          <a:custGeom>
            <a:avLst/>
            <a:gdLst/>
            <a:ahLst/>
            <a:rect l="l" t="t" r="r" b="b"/>
            <a:pathLst>
              <a:path w="5670" h="1456">
                <a:moveTo>
                  <a:pt x="0" y="1456"/>
                </a:moveTo>
                <a:cubicBezTo>
                  <a:pt x="240" y="1183"/>
                  <a:pt x="480" y="910"/>
                  <a:pt x="720" y="676"/>
                </a:cubicBezTo>
                <a:cubicBezTo>
                  <a:pt x="960" y="442"/>
                  <a:pt x="1080" y="104"/>
                  <a:pt x="1440" y="52"/>
                </a:cubicBezTo>
                <a:cubicBezTo>
                  <a:pt x="1800" y="0"/>
                  <a:pt x="2460" y="234"/>
                  <a:pt x="2880" y="364"/>
                </a:cubicBezTo>
                <a:cubicBezTo>
                  <a:pt x="3300" y="494"/>
                  <a:pt x="3540" y="728"/>
                  <a:pt x="3960" y="832"/>
                </a:cubicBezTo>
                <a:cubicBezTo>
                  <a:pt x="4380" y="936"/>
                  <a:pt x="5130" y="962"/>
                  <a:pt x="5400" y="988"/>
                </a:cubicBezTo>
                <a:cubicBezTo>
                  <a:pt x="5670" y="1014"/>
                  <a:pt x="5625" y="1001"/>
                  <a:pt x="5580" y="988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371600" y="53341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5715000"/>
            <a:ext cx="563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90920" y="5791320"/>
            <a:ext cx="2971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免疫接种后天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26640" y="2818080"/>
            <a:ext cx="2741040" cy="459720"/>
          </a:xfrm>
          <a:prstGeom prst="rect">
            <a:avLst/>
          </a:prstGeom>
          <a:noFill/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正常鸡免疫后的初次抗体应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4266000"/>
            <a:ext cx="4191120" cy="459720"/>
          </a:xfrm>
          <a:prstGeom prst="rect">
            <a:avLst/>
          </a:prstGeom>
          <a:noFill/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应激原作用后免疫的抗体应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减轻或者消除应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冬季养鸡最多的应激因素就是冷应激（温差变化过大过频、贼风）、通风不良（缺氧、有害气体超标时间过长）、霉菌以及疾病，通过改善鸡舍保温条件、减少饲养密度、提高供暖效率、正确使用通风方法等手段，可以有效减轻应激的发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研究表明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减小应激原的不利影响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用方式不象其他维生素，它参与类固醇激素包括肾上腺皮质酮和性激素、雌激素及睾丸酮产生的不同环节。在其它组织生产更多性激素的同时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减少肾上腺皮质酮的产生，因而应激反应不会那么强烈，而且免疫抑制也不会那么严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关于免疫反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很多养鸡者希望防止疫苗反应，因为有害的疫苗反应对养禽的经济效益有负面影响，尤其在冬季肉鸡发生过度的疫苗反应是普遍的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度的疫苗反应可以引起增重缓慢、饲料消耗和死淘率增加以及昂贵的治疗成本。然而，正常的疫苗反应是活苗接种发生的正常现象，是机体免疫系统产生应答的指征。灭活苗接种也可在接种的部位产生局部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刺激免疫系统是鸡只抵抗疾病所必需的，如果免疫后没有任何疫苗反应，表明免疫系统没有被激活。造成这种结果的原因有许多，如达不到最低疫苗剂量、活苗在接种前被灭活、或在免疫时鸡本身就有足够的免疫力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风换气，可以适当地排除舍内的有害气体、病原微生物、灰尘和水汽等，降低它们对鸡生长发育的影响，另外换进外界新鲜的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鸡舍内的有害气体主要有氨气、硫化氢气体、二氧化碳、一氧化碳等，浓度过高而又长时间得不到缓解时，就会出现下述危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氨气浓度过高，常发生粘膜的碱损伤和全身碱中毒、粘膜充血症、呼吸道疾病和贫血。严重时还会导致粘膜水肿、肺水肿和中枢神经中毒性麻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化氢浓度过高时易引起粘膜酸损伤和全身酸中毒，情况同氨气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氧化碳浓度过高，持续时间长时主要是造成缺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有害的疫苗反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害的疫苗反应达不到好的免疫效果。导致疫苗反应严重的因素包括鸡的质量、母源抗体的水平、疫苗毒（菌）株和所接种的剂量、免疫途径、接种时间、免疫抑制、应激原、饮水、垫料和空气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肉仔鸡正常的嗜呼吸道疫苗的反应通常在免疫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开始，并持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左右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龄免疫后所产生的抗体，对于二次的加强免疫具有缓冲作用，使得疫苗反应通常较轻。然而在冬季，当鸡舍密闭保温时，空气交换减少、空气质量下降，将导致严重的疫苗应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粉尘和氨气会大大加重呼吸道疫苗反应，而且会影响到下次免疫。呼吸道疫苗反应通常以眼流泪、呼吸道啰音和头部震颤为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5715000" cy="39621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371600" y="545544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呼吸道疫苗反应，鼻、眼有分泌物、张口呼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鸡群健康状况不良或正处于发病状态，这样就削弱了其清除疫苗反应的能力。当免疫时鸡正处于免疫抑制状态，疫苗反应比正常更严重。由于免疫系统遭受损伤，它们没有能力从呼吸道中清除疫苗病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起免疫抑制的原因比较复杂，属于商品场的主要有传染性法氏囊病、球虫病、波氏杆菌病、霉菌毒素中毒和鸡贫血因子感染。许多应激反应也是引起免疫抑制的原因，在应激反应过程中，动物很难抵抗病原体的侵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其它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滚动反应：如果接种疫苗的操作不当，将显著地影响其滴度。这将使部分鸡不能获得最小感染剂量，导致疫苗病毒从接种鸡向未接种鸡传播，产生长期的疫苗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接种方法 ：喷雾免疫时雾滴过细（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微米），会使疫苗病毒被吸入到呼吸道的深部，引起严重反应。疫苗毒株的毒力太强，疫苗反应可能更严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饲养管理：如果没有空气流动；如果鸡受凉；如果昼夜的温差很大；如果饮水被细菌严重污染；如果垫料潮湿；如果鸡舍内的氨气浓度过高、过量的粉尘或者如果鸡正受到热应激原刺激，疫苗反应必定加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一种必要的反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之，疫苗反应是机体免疫系统对疫苗中的病原做出的重要和必需的应答。这一反应标志着对病原因子的识别。血清学监测也是用于评价对某些疫苗反应的工具。过度的反应并不理想，但可以通过良好的饲养管理、正确的疫苗操作、选择适当的疫苗以及正确地接种加以避免或减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我的认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要做的太多，但我们最应该的是：把我们能够做到的做好；不能做到的请人来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能做的不做，或做的不认真不细致，结果只能是把鸡养出病来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返璞归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鸡舍内各种气体的浓度有一个允许范围值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气体 致死浓度（％）最大允许浓度（％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氧化碳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30           &lt;1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烷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5            &lt;5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化氢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0.05         &lt;0.00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p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氨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0.05        &lt;0.0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p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lt;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569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氨气比重较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7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离地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-1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的密度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化氢比重较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4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离地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-4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密度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比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与空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接近，离地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-9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最大。据此确定适宜的换气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8915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冬季通风方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决通风与保温的矛盾比较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适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做法是采用横向负压通风，以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最小通风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满足新鲜空气的需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7848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何为最小通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小通风量是鸡只维持生命和健康所需的最低的新鲜空气供给量。当鸡舍通风量低于最小通风量时，有害气体增加，氧气减少，会引发呼吸道等疾病，甚至会对鸡群的生命造成威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冬季鸡舍温度比我们所需要的理想目标温度低时，就需要采用最小通风方式。通常推荐的最低通风量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0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方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斤体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横向通风气体交换快，在保证空气质量的同时又不会导致鸡舍内环境温度变化太大，因为横向通风时鸡只基本感觉不到有风吹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7T03:40:04Z</dcterms:created>
  <dc:creator/>
  <dc:description/>
  <cp:keywords/>
  <dc:language>en-US</dc:language>
  <cp:lastModifiedBy>房曰国</cp:lastModifiedBy>
  <dcterms:modified xsi:type="dcterms:W3CDTF">2013-05-27T19:51:25Z</dcterms:modified>
  <cp:revision>4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  <property fmtid="{D5CDD505-2E9C-101B-9397-08002B2CF9AE}" pid="3" name="Version">
    <vt:r8>1</vt:r8>
  </property>
</Properties>
</file>